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CCD-FEFC-4B85-8065-20BC2152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C6A-84E7-4D87-BF53-74FFAC36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688-F4AF-4CA5-A893-C32721AA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637-7BFE-4F3A-8C2C-3CBE20A9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76C2-74FF-442A-ABD7-FB827637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112D-C821-4F64-AE68-73C8AF80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7C60-6715-4825-8EA9-36C4C841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A091-544F-4064-A712-876CE19A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C682-6B49-4A14-8626-C1397B7C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38D9-37C2-4873-BA7F-D8D676A2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614F-557E-4AA2-B73C-229A779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020-11EB-4E37-AD28-BAE65FBC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94DA-C2C2-42E4-9F00-64EA783A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2039-3360-4912-B4A4-DD3179C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763D-FA31-4AD7-8FC2-8B4C26C0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5688-3752-40A0-92C2-3B02FC8F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43F2-2142-468F-BD1D-3FBBEE15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2FA-9D78-459A-BBE3-1AC4DCFD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7D5-3854-4549-9FD3-FEC8B3CF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47B-7331-4565-9A98-E238818D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FF5-7226-4872-B193-D63215B6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595-E2E2-4440-AB2A-45D924B9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1AA-4938-4443-85FF-DEA1138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AC8-DF64-4D25-8773-E3172DB0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6AB0-B0D6-4186-A310-743C3F18908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E345-2B30-4D77-91A4-7D020C2EB1A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7592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Pristina"/>
              </a:rPr>
              <a:t>Wednesday Wonders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6248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Pristina"/>
              </a:rPr>
              <a:t>Entrance task</a:t>
            </a:r>
            <a:r>
              <a:rPr b="0" lang="en-US" sz="4000" spc="-1" strike="noStrike">
                <a:solidFill>
                  <a:srgbClr val="ffffcc"/>
                </a:solidFill>
                <a:latin typeface="Pristina"/>
              </a:rPr>
              <a:t>: Think –why did the industrial revolution spread at different rates in continental Europ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Pristina"/>
              </a:rPr>
              <a:t>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Pristina"/>
              </a:rPr>
              <a:t>Today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Pristina"/>
              </a:rPr>
              <a:t>:</a:t>
            </a:r>
            <a:r>
              <a:rPr b="1" lang="en-US" sz="4000" spc="-1" strike="noStrike">
                <a:solidFill>
                  <a:srgbClr val="ffffcc"/>
                </a:solidFill>
                <a:latin typeface="Pristin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Pristina"/>
              </a:rPr>
              <a:t>The Industrial Revolution spreads to the continen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Pristina"/>
              </a:rPr>
              <a:t>Homework</a:t>
            </a:r>
            <a:r>
              <a:rPr b="0" lang="en-US" sz="4000" spc="-1" strike="noStrike">
                <a:solidFill>
                  <a:srgbClr val="ffffcc"/>
                </a:solidFill>
                <a:latin typeface="Pristina"/>
              </a:rPr>
              <a:t>: Ch. 22-3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factory%20worker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362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9376" t="6251" r="9376" b="3125"/>
          <a:stretch/>
        </p:blipFill>
        <p:spPr>
          <a:xfrm>
            <a:off x="685800" y="228600"/>
            <a:ext cx="79246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rystal%20palace%202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538440" cy="3538440"/>
          </a:xfrm>
          <a:prstGeom prst="rect">
            <a:avLst/>
          </a:prstGeom>
          <a:ln w="0">
            <a:noFill/>
          </a:ln>
        </p:spPr>
      </p:pic>
      <p:pic>
        <p:nvPicPr>
          <p:cNvPr id="92" name="Crystal%20Palace" descr=""/>
          <p:cNvPicPr/>
          <p:nvPr/>
        </p:nvPicPr>
        <p:blipFill>
          <a:blip r:embed="rId3"/>
          <a:stretch/>
        </p:blipFill>
        <p:spPr>
          <a:xfrm>
            <a:off x="4343400" y="2895480"/>
            <a:ext cx="459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t interpret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groups, examine the charts relating to the industrial revolu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3 conclusions that may accurately be drawn from this inform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re any info that seems contradictory?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11999" t="0" r="14998" b="23335"/>
          <a:stretch/>
        </p:blipFill>
        <p:spPr>
          <a:xfrm>
            <a:off x="838080" y="228600"/>
            <a:ext cx="73152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4998" t="832" r="8999" b="24665"/>
          <a:stretch/>
        </p:blipFill>
        <p:spPr>
          <a:xfrm>
            <a:off x="304920" y="609480"/>
            <a:ext cx="82296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2518" t="11189" r="7714" b="38002"/>
          <a:stretch/>
        </p:blipFill>
        <p:spPr>
          <a:xfrm>
            <a:off x="533520" y="685800"/>
            <a:ext cx="8153280" cy="34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1998" t="2003" r="5999" b="40667"/>
          <a:stretch/>
        </p:blipFill>
        <p:spPr>
          <a:xfrm>
            <a:off x="380880" y="1295280"/>
            <a:ext cx="82296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8002" t="0" r="11999" b="24003"/>
          <a:stretch/>
        </p:blipFill>
        <p:spPr>
          <a:xfrm>
            <a:off x="1066680" y="304920"/>
            <a:ext cx="70866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3:49:51Z</dcterms:created>
  <dc:creator>Computer Services</dc:creator>
  <dc:description/>
  <dc:language>en-US</dc:language>
  <cp:lastModifiedBy>Computer Services</cp:lastModifiedBy>
  <dcterms:modified xsi:type="dcterms:W3CDTF">2006-12-13T17:09:36Z</dcterms:modified>
  <cp:revision>3</cp:revision>
  <dc:subject/>
  <dc:title>Tuesday Tidings</dc:title>
</cp:coreProperties>
</file>